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213C4-2906-4906-8401-52FE5177C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B69A6-CEB8-427D-B132-8CDFF9231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11E55-D250-483D-A45F-E3F0875CC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3CB19-26B6-409C-B195-D1BE46371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565D8-DD2B-4945-8E2D-3BE99FD0B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D0DC2-EBA4-4706-AA28-7260C6419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1A36B-8B34-46A7-824F-7B2F8CF5A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AB911-E7DF-47B6-8487-19E765205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F2A25-7719-4B47-B11E-0E7DCC947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E34B7-6912-483F-A4C8-DD2729F86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218DA-1479-4ECA-8FF7-1CAF34DFF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27B20-14C4-4986-A3A4-B9AD73524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534B8-7E91-44B7-B6A8-6D2395BC9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03465-1ABB-4F87-B9A9-6F5997116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67E08-45A3-4960-81D8-070F74426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71EA6-DE3A-4134-9923-8C711ACF3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A5124-E68A-4E18-8974-743B49053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AFAB3-7200-4852-917F-8C625392B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1ECF3-DB35-4BF2-B811-5306CFD5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3E9BE-83B0-4AC5-83EC-386041A4D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B425E-6AED-4859-968E-9D0DC9BC6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C0B0-9D7B-454D-9198-23EB5F36D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ED8E3-C038-436D-B193-81B0F23F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95813-82AE-4981-AC19-0AA188008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F045-E61B-4C0C-A11D-F5555C1D7DA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368C-EBB6-4D2D-B964-4D068B42FB0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OL</a:t>
            </a:r>
            <a:endParaRPr b="0" lang="en-US" sz="3600" spc="-1" strike="noStrike">
              <a:solidFill>
                <a:srgbClr val="006666"/>
              </a:solidFill>
              <a:latin typeface="Arial"/>
            </a:endParaRPr>
          </a:p>
        </p:txBody>
      </p:sp>
      <p:sp>
        <p:nvSpPr>
          <p:cNvPr id="9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ll these words correctly:</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ceptible, acomodate, aquire,   changable, firy, hara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swers</a:t>
            </a:r>
            <a:endParaRPr b="0" lang="en-US" sz="3600" spc="-1" strike="noStrike">
              <a:solidFill>
                <a:srgbClr val="006666"/>
              </a:solidFill>
              <a:latin typeface="Arial"/>
            </a:endParaRPr>
          </a:p>
        </p:txBody>
      </p:sp>
      <p:sp>
        <p:nvSpPr>
          <p:cNvPr id="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ceptable, accommodate, acquire,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angeable, fiery, haras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reewrite</a:t>
            </a:r>
            <a:endParaRPr b="0" lang="en-US" sz="3600" spc="-1" strike="noStrike">
              <a:solidFill>
                <a:srgbClr val="006666"/>
              </a:solidFill>
              <a:latin typeface="Arial"/>
            </a:endParaRPr>
          </a:p>
        </p:txBody>
      </p:sp>
      <p:sp>
        <p:nvSpPr>
          <p:cNvPr id="9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min</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your most prized possession? If your house was on fire what is one object you would try to save? (Assume your family is safe and you have time to grab something.)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Match the vocab word with its synonym</a:t>
            </a:r>
            <a:endParaRPr b="0" lang="en-US" sz="3200" spc="-1" strike="noStrike">
              <a:solidFill>
                <a:srgbClr val="006666"/>
              </a:solidFill>
              <a:latin typeface="Arial"/>
            </a:endParaRPr>
          </a:p>
        </p:txBody>
      </p:sp>
      <p:sp>
        <p:nvSpPr>
          <p:cNvPr id="96"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Emigrate</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Erosion</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Evoke</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Excise</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Enervate</a:t>
            </a:r>
            <a:endParaRPr b="0" lang="en-US" sz="4100" spc="-1" strike="noStrike">
              <a:solidFill>
                <a:srgbClr val="000000"/>
              </a:solidFill>
              <a:latin typeface="Verdana"/>
            </a:endParaRPr>
          </a:p>
        </p:txBody>
      </p:sp>
      <p:sp>
        <p:nvSpPr>
          <p:cNvPr id="97"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Call on</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Leave</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Worn away</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Remove</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Destroy</a:t>
            </a:r>
            <a:endParaRPr b="0" lang="en-US" sz="4100" spc="-1" strike="noStrike">
              <a:solidFill>
                <a:srgbClr val="000000"/>
              </a:solidFill>
              <a:latin typeface="Verdana"/>
            </a:endParaRPr>
          </a:p>
          <a:p>
            <a:pPr marL="34308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Verdana"/>
            </a:endParaRPr>
          </a:p>
          <a:p>
            <a:pPr marL="343080" indent="0">
              <a:spcBef>
                <a:spcPts val="10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tsby</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ad ch. 8 for tomorrow</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7:27:05Z</dcterms:created>
  <dc:creator>rebecca</dc:creator>
  <dc:description/>
  <dc:language>en-US</dc:language>
  <cp:lastModifiedBy>rebecca</cp:lastModifiedBy>
  <dcterms:modified xsi:type="dcterms:W3CDTF">2009-03-17T18:28:36Z</dcterms:modified>
  <cp:revision>2</cp:revision>
  <dc:subject/>
  <dc:title>DOL</dc:title>
</cp:coreProperties>
</file>